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A9A-8555-4F2D-9D5C-3D227647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6BD-82C9-4EE2-AAFC-9BDA7162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C87-7A28-4271-BA37-405BD218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D7B-FD85-4A1E-8992-7673981B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84D-40DB-4D82-9BAF-1670A6C4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DC3-364C-46D0-9983-56443DF7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3DE-2FAF-4EC0-90AE-63A74ACD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FA5-1BE0-48D3-871A-A9047E95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318-451D-4D47-BD60-9A6781E5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457-113A-483A-ADD9-87B3FE4E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284-6AD2-4021-8331-C2168847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F0D-1A37-45CE-AD45-A66E8A6A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4601-A653-46B1-9DB7-1A7C66ED5C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993080" cy="603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августа 2021г.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Региональный вебинар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учителей английского языка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образовательных учреждений г. Перми </a:t>
            </a:r>
            <a:br>
              <a:rPr sz="2400"/>
            </a:br>
            <a:r>
              <a:rPr b="1" i="1" lang="ru-RU" sz="2400" spc="-1" strike="noStrike">
                <a:solidFill>
                  <a:srgbClr val="374c81"/>
                </a:solidFill>
                <a:latin typeface="Arial"/>
                <a:ea typeface="바탕"/>
              </a:rPr>
              <a:t>и Пермского края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вышение  профессионально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мотности учителя иностранного язык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блемы и решения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Тихомирова О.А., снс  отдела научно-методического сопровождения общего образования ЦНППМПР ГАУ ДПО ИРО ПК   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"/>
              </a:rPr>
              <a:t>oat_poipkro@mail.ru</a:t>
            </a:r>
            <a:br>
              <a:rPr sz="1800"/>
            </a:br>
            <a:br>
              <a:rPr sz="2400"/>
            </a:b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14446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ладеть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фонетическими навыками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различать на слух и адекватно,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без ошибок, ведущих к сбою коммуникации,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оизноси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лова с правильным ударением и фразы с соблюдением их ритмико-интонационных особенностей, в том числе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применять правила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тсутствия фразового ударения на служебных слова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spcBef>
                <a:spcPts val="11"/>
              </a:spcBef>
              <a:tabLst>
                <a:tab algn="l" pos="0"/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ыразительно читать вслух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небольшие адаптированные аутентичные тексты объёмом до 90 слов, построенные на изученном языковом материале, с соблюдением правил чтения и соответствующей интонацией, демонстрируя понимание содержания текста; читать новые слова согласно основным правилам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31f20"/>
              </a:buClr>
              <a:buFont typeface="Times New Roman"/>
              <a:buChar char="•"/>
              <a:tabLst>
                <a:tab algn="l" pos="63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задачи учителя в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.Развитие функциональной грамотности школьников, повышение читательской активности учащихс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Ориентация на компетентностный подход в  содерж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В основе обучения- коммуникативно-когнитивный метод, направленный на развитие ведущих компетенций: навык критического мышления, сотрудничество в обучении, цифровая грамотность, рефлексия, автономия в обучении, умение проявлять личную инициативу</a:t>
            </a:r>
            <a:r>
              <a:rPr b="0" lang="ru-RU" sz="2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Основные результаты ЕГ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341360"/>
          <a:ext cx="8229600" cy="2378160"/>
        </p:xfrm>
        <a:graphic>
          <a:graphicData uri="http://schemas.openxmlformats.org/drawingml/2006/table">
            <a:tbl>
              <a:tblPr/>
              <a:tblGrid>
                <a:gridCol w="1176480"/>
                <a:gridCol w="993600"/>
                <a:gridCol w="1224000"/>
                <a:gridCol w="1308240"/>
                <a:gridCol w="1176120"/>
                <a:gridCol w="1174680"/>
                <a:gridCol w="1176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стобал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не сд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глий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"/>
              </a:rPr>
              <a:t>Из выступления Президента России В. В. Путина  на президиуме Госсовета РФ по вопросам образования 25.08.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11280" y="155088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400" spc="-1" strike="noStrike">
                <a:solidFill>
                  <a:srgbClr val="555555"/>
                </a:solidFill>
                <a:latin typeface="roboto_ltregular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, ключевая тема – это качество образования. Наша цель – обеспечить его высокий уровень во всех школах. Не только потому, что мы стремимся войти в число каких-то там ведущих стран мира по качеству общего образования, какие-то там «десятки», «пятёрки» и так далее. Дело совершенно не в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лавное – дать нашим детям фундаментальные знания по ключевым предметам и научить применять их в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раскрытия их способностей, чтобы они как можно раньше определились с будущей професс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тем детям, которые по разным причинам испытывают трудности с обучением: это могут быть проблемы психологического характера, большой учебной нагрузки, сложной жизненной ситуации в семь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План веб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лючевые  события  и итоги 2020-2021 учебного года. Новые направления работы в  поддержке профессионального развития педагог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ихомирова О.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нс ГАУ ДПО ИР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собенности новой модели ЕГЭ по английскому язы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елина Н.Н., учитель английского языка высшей категории МАОУ «СОШ №50 с углубленным изучением английского языка» г. Перми, руководитель методического объединения учителей английского языка г. Перми, эксперт ЕГЭ, член конфликтной комисс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765000"/>
            <a:ext cx="8075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юле 2020г. создан и начал функционирование краевой Центр непрерывного повышения профессионального мастерства педагогических рабо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ь - обеспечение условий для непрерывного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персонифицированн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я профессионального мастерства педагогов и руководящего состава образовательных учреждений Пермского края. ( адрес: ул. Бородинская,35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дущее направлени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опровождение школ с низкими образовательными результат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 2021 году Пермский край включился в реализаци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федерального проек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500+», цель которого – повышение качества образования в образовательных организациях с низкими образовательными результатами обучающихся путем реализации для каждой такой образовательной организации комплекса мер поддержки, разработанного с учетом результатов предварительной комплексной диагностики по этой образовательной организации. 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61 О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Н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гиональном уро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уется проект «Образовательный лифт:ШН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Цель проекта: организация процесса научно-методического, организационно-методического, информационного сопровождения сетевых предметных групп учителей из школ с низкими образовательными результатами в аспекте освоения ими эффективных форм и методов организаци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предметного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 обучения, направленного на повышение уровня образовательных результатов школьников, наполнение и представление педагогическому сообществу Пермского края виртуального банка учебно-методических разработок в рамках Мероприятия.  В группу учителей английского языка вошли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42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педагога из </a:t>
            </a:r>
            <a:r>
              <a:rPr b="0" lang="ru-RU" sz="1600" spc="-1" strike="noStrike">
                <a:solidFill>
                  <a:srgbClr val="ff0000"/>
                </a:solidFill>
                <a:latin typeface="Circe"/>
              </a:rPr>
              <a:t>18 </a:t>
            </a:r>
            <a:r>
              <a:rPr b="0" lang="ru-RU" sz="1600" spc="-1" strike="noStrike">
                <a:solidFill>
                  <a:srgbClr val="000000"/>
                </a:solidFill>
                <a:latin typeface="Circe"/>
              </a:rPr>
              <a:t>муниципалит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54936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 муниципальном уров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рганизация   повышения квалификации учителей  через предметно-методическую диагностику(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ов, в том числе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Пермского кр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Участие педагогов г. Перми и края в пополнении дидактическими материалами библиотеки краевой платформы ЭПОС.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ителей английского языка из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итетов края и города Перми представили окол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личных дидактических материалов на все уровни образования. Особенно следует отметить за активное  участие в этой работе учителей английского языка из  г. Соликамск, г. Кунгур, г. Пермь (школы 25,7,133,122,гимназия 10, школа 50 и многие друг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303030"/>
                </a:solidFill>
                <a:latin typeface="Arial"/>
                <a:ea typeface="Calibri"/>
              </a:rPr>
              <a:t>Реформирование системы образования РФ продолжается, и в 2021 году учителей ждет совершенно новая форма аттестации и повышения квалификации в рамках проекта НСУР (Национальная система учительского ро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тверждены приказами Министерства Просвещения РФ №№ 286,287 от 31 мая 2021 г.  ФГОС начального и основного общего образования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2021-2022 учебного года важно изучить содержание данных документов, обсудить необходимые изменения в профессиональной деятельности на школьных МО, региональных РУМО. Для освоения содержания новых ФГОС будут предложены курсы повышения квалификации, методические вебинары/семинары и другие образовательные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ые стандарты будут обязательны к реализации в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2022–2023 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бном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Ключевые  события  2020-2021 учебного 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980640"/>
            <a:ext cx="7859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Разработаны и вышли в свет  для общественного обсуждения ( пока в статусе проекта) примерные рабочие программы для начальной и основной школы по предметам учебного плана. В содержание программы  входят следующие разде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900000" y="2060640"/>
            <a:ext cx="6624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5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говорение:</a:t>
            </a:r>
            <a:r>
              <a:rPr b="1" lang="ru-RU" sz="2000" spc="-1" strike="noStrike">
                <a:solidFill>
                  <a:srgbClr val="231f20"/>
                </a:solidFill>
                <a:latin typeface="Cambria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вести разные виды диалогов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диалог этикетного характера, диалог — побуждение к действию, диалог-расспрос) в рамках тематического содержания речи в стандартных ситуациях неофициального общения, с вербальными и/или зрительными опорами, с соблюдением норм речевого этикета, принятого в стране/странах изучаемого языка (до 5 реплик со стороны каждого собесед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создавать разные виды монологических высказываний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описание, в том числе характеристика; повествование/сообщение) с вербальными и/или зрительными опорами в рамках тематического содержания речи (объём монологического высказывания — 5—6 фраз); </a:t>
            </a:r>
            <a:r>
              <a:rPr b="0" i="1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основное содержание прочитанного текста с вербальными и/или зрительными опорами (объём — 5—6 фраз);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тко 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лаг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 выполненной проектной работы (объём — до 6 фра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26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аудирование: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воспринимать на слух и понимать несложные адаптированные аутентичные текс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ты, содержащие отдельные незнакомые слова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 зрительными опорами или без опоры с раз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время звучания текста/текстов для аудирования —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1 минуты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 algn="just">
              <a:lnSpc>
                <a:spcPct val="105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смысловое чтение</a:t>
            </a:r>
            <a:r>
              <a:rPr b="1" lang="ru-RU" sz="2400" spc="-1" strike="noStrike">
                <a:solidFill>
                  <a:srgbClr val="231f2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и понимать несложные адаптированные аутентичные тексты,</a:t>
            </a:r>
            <a:r>
              <a:rPr b="0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содержащие отдельные незнакомые слова, с различной глубиной проникновения в их содержание в зависимости от поставленной коммуникативной задачи: с пониманием основного содержания, с пониманием запрашиваемой информации (объём текста/текстов для чтения — 180—200 слов); </a:t>
            </a:r>
            <a:r>
              <a:rPr b="0" i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читать про себя несплошные тексты (таблицы) и понимать представленную в них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231f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Предметные результаты обучения 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42920" algn="just">
              <a:lnSpc>
                <a:spcPct val="105000"/>
              </a:lnSpc>
              <a:spcBef>
                <a:spcPts val="11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сьменная речь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исать короткие поздравления с праздниками; заполнять анкеты и формуляры,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общая о себе основные сведения, в соответствии с нормами, принятыми в стране/странах изучаемого языка; писать электронное сообщение личного характера, соблюдая речевой этикет, принятый в стране/странах изучаемого языка (объём сообщения — до 60 с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280" indent="142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1T10:22:06Z</dcterms:modified>
  <cp:revision>979</cp:revision>
  <dc:subject/>
  <dc:title>Diapositiva 1</dc:title>
</cp:coreProperties>
</file>